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wind.wav" ContentType="audio/x-wav"/>
  <Override PartName="/ppt/media/image7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A8E-0C24-47EC-B325-58E86582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7ED-44BE-4225-AE97-84238BCE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351AA-1EF2-46A6-AB47-BD17E2C8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C5DB7-0E73-4CB1-8D50-D52447F1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88726-B7BC-4133-AD07-9AADD6BD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B4489-92A8-4B32-8673-E5D5FCB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8D713-8E0B-4C92-8252-C26CD852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2CB87-B6CD-4039-A31A-70A2467A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99038-0111-4D26-95F7-43BCD389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D1636-6F59-4397-A620-168A940E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F4FF3-6F5A-4B6B-B61C-D43A3795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CC044-B746-4B68-BED4-D5454124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7FD-E883-43AC-8EB9-91434D12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F719E-F9DC-47F3-9B48-BAA4CC9E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FDAD9-D893-4ABD-9250-6E5B9B7A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613D9-B478-4653-A49A-1AED0172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D0695-A627-44EC-BF95-BE023AD5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2A0ED-43FC-4403-8305-7A9848F3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3F709-29F1-4A71-8DB4-453FF5AF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A49B0-CE40-4C02-A967-E3EDEDA6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60C37-3373-4CCB-AEFE-7884C3F2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2C6E8-5492-4079-B93F-6D8DA42F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C1612-73DD-4CEB-ACAB-DA858B74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9AE-F117-492E-B390-CDC17998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83CC8-C592-4018-81B0-785CE426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3DA37-7220-4E74-A324-119EE4DE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8337D-6FDD-4389-A902-F6276DBA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55A04-98A5-44E3-B53F-0D0BC9C9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F45D9-0796-4FCB-916F-E897F6F0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4FA17-E04E-491F-8632-F9E1FBDD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8657A-9FCD-45A1-A830-6F7434BC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45A29-D17A-44B2-9EAD-62344132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F3642-645B-4B34-886A-2636CD51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6453E-B36A-4D69-9C89-0AB6BB88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C12C-C393-4E6E-B977-2B28CF81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AC8CC-83DC-46C1-BBE5-1D8D537C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E4990-0E17-4F18-ACA4-2C3438A6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58F1C-731B-4628-8A4A-D9A52288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F594A-5E65-413C-85DD-0C075E6B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B0923-CB44-4AFA-BC15-C6D91D7A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63331-16B7-4F05-BA78-D443D290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6E626-0DB0-4ED2-9267-26076F60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479E3-A7A0-4026-ACE8-BE139060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DE065-088D-4B9D-BF72-C64C5F20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79AB4-4601-4C9B-B9F8-1C8DDB94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9223-C98A-4C05-ACF2-975A6152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1A14A-91B1-45E4-8B26-CFB3DBB3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3B9CB-0EA4-4C88-A3E6-8FE4B925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B8089-2B6B-4539-8E63-0DE8CFE4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5606E-BD9D-47E4-AFCA-05EE44F4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00AD0-4C34-4FD9-907D-EEE59B8B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927E-7AA4-4DB0-A774-EFB0C71B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F461-A05E-4EB0-B558-C5871EC6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C3E2-FD0F-45ED-A67A-F52919E3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3266-9D4D-408C-BC7A-0BB5A6D1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1246-6BCE-4746-AAF2-B5D35F82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3C5-CC5D-4B54-86C1-A91A9472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8DF8-0B39-44F5-B8B3-183E3AC4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0B95-41CE-41E1-89EF-C879E68C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C68D-E316-4054-860B-59891333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3761-4B66-47B4-A996-ECA1B5F4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C83D-18DB-4A43-AA75-D8F544E2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B9082-D211-4DDA-867B-E29C0B64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0EA7-BCF8-48B7-9407-5DC9F147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6DFBA-1927-4DF9-9BDD-5ADA77E9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E29FE-BD89-4555-8370-5BACBB1F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557A-6C4F-4084-BCA5-FA7E069F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49E-0EF7-4E67-BE9A-03BCE6A8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8A118-FD92-497C-88B9-1C93059E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EAB85-9BDE-4193-8598-5F6B4917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D319-98C7-41A2-A902-78CFEA84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F357C-4891-4A0A-9E48-1F08B83C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E05B-7C79-4E05-ABCC-12451314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4CCD-B93C-43E0-A1CE-BCD772CF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4669-0A97-4228-A863-956AAC7E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68D17-631A-48FC-966C-C0C44F89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9D76-8AF2-4FCA-A4FC-2C3E9991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CD48B-DA58-48BF-BA29-075852EF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691-0C76-4196-9EE7-745C8F3A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D81DC-AFA2-4724-B6FE-E3360CC3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495D7-06BC-4CD4-9207-CF0B6BDE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6CD69-EA6C-4746-8A39-1F7E2342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B1AD1-07D3-4F5D-A9D6-AD98836F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F3CE-B453-4B5F-9B88-5FB0A37C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738FF-DF8A-418F-88D3-9AD76930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C9CAD-980C-4937-A238-8B39D374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58058-80D3-4A15-98BD-7AF53CF3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C9911-7F48-423C-8B73-524C73DC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7429-A32E-4EB1-B68D-F9AA9FDC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860-2133-4881-B379-2A551437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062DA-6AC8-4FCD-97EC-60C3F7EE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95487-B6EC-4B26-A773-D746FAD6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545E9-9B00-41C8-BF9D-9356B238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C31D7-6803-4371-BA95-AB4652F1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76E67-3A10-475F-BD6D-C6848FFD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308BF-8D9E-4C12-AF19-D374071D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8BFF4-B87B-477C-A2C6-15F34326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6C078-857E-425C-A22B-AE0EBC14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A38AF-BD40-49DD-A8B0-0BB41C1D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5FF3E-5028-46B0-84EF-43B9E959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EB5-4070-444D-8E42-30D96D9D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0A6D3-E668-4716-9E70-2F5E34D2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6B87C-334F-4A55-9FF7-864D3942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B98B1-FA3F-4B52-978A-5291FBF1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48F1A-2141-4915-8496-55912ABE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C7A0C-740E-4E41-A6B4-09854A15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8B24D-8475-4F3B-8935-3FAF5972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8C433-9F67-4D83-9CC5-FFA38BF5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AFF7B-8496-4764-997F-7989409A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DA9C5-6C70-410B-B4B3-54E76E1B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443D9-DA2F-4FF7-8805-108F5961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919-4788-48F5-9E68-DBECE377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DD2D1-B7EA-4C8A-BF85-90BC98A5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AC355-DCC4-427B-BF71-544F24F7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756EA-77D4-4FDA-8E25-48D3A345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758BD-04BC-47C9-9A96-391862FD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D3D53-1331-4FE5-B957-774E3EFB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5BDC0-03BA-469E-A968-84EA2884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9D6DB-EA6D-4BF8-A0D5-6CD856FD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B52AB-A8A9-404B-B2F3-387CEA2B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5B596-63DD-45F5-91FD-09963404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2500E-25DC-413B-B0CE-F3CE305B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1BB-8BEA-4215-B1A2-5E6FED4F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EA11E-C204-47DE-A57B-BD289D29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822ED-3F4F-40AC-985C-8FD1B6E7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88CD8-4954-4927-991E-DB30C103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C94D4-D900-4A35-AAAF-E5ADC57B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9C1E1-60E5-4D43-BEB1-7FE8A886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09859-BF56-4FD1-AB26-3AE41DE6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B78D2-18BB-40A4-B31B-B8E7DDE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EE86A-A434-4BBE-B822-4C85AE25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756FB-2658-41D4-BC23-F1D9E625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49F37-7978-4AEC-8C89-C661F224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429-A2A4-4158-9B3C-38C008D1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84806-D2AB-405D-ACCD-0A0FB1B2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77635-53FE-405B-A47E-02034184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A7497-5D1A-4CD6-8E97-C7C6B4B8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03560-236F-48A8-8851-6AA0C51A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EFB0B-020D-4713-AA37-BE9B0898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A7683-9937-4E84-9EEA-2F648A06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E9CAB-B5C3-4793-9EEC-2636532D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EB9A3-1C54-41FC-AD5D-20E35C66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AC7C6-C4A1-4BD3-918E-41D45025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68E0F-B931-4B19-925A-312E3879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3B93A-1D50-4490-8E93-D13497FE0D4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FA63D-5682-4635-B691-F863AD28DC78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25632-BDCD-4A7E-89EC-3D987EF39DF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FAB47-C74A-40D9-AC24-9931E078FA9D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84122-A871-485B-BB79-BB7927B520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53D6D-6687-4C05-A9CE-D8F031B11A0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17C08-10B4-4D62-97A9-DD54C290D4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168B8-E99C-4D4B-8905-8F4289917CAF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018E6-A492-4A9B-81E5-66C47E19C7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BD61C-63F0-4776-814A-BF18C8DEECD6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5011D-51B2-4A56-98BC-E04A5664D17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5BA14-958C-49FE-AE3F-9608B42FA379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0CD01-C3AA-4617-8D89-05D454D335E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7E760-EB55-4479-B2F8-7BFAD301C75C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37CF4-B826-4376-A6D4-A2E0CEA4102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E1090-660D-4712-91F0-6D50A53886BC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CBBE1-6726-4A4B-8C11-16FB04B0B9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FAA4F-4C93-4440-AC54-3665F30709C6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AF7CB-CB54-44DC-97CE-E6BB846A91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4186B-70F0-4EF8-A3F4-D012CFBD5ED5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93140-8178-4E94-B5CC-E6BF757C87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5F4C2-7265-4419-A8CF-C7BFE1673FA8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5D08D-0BD4-4178-9A56-B3C9FCC1851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"/>
          <p:cNvSpPr/>
          <p:nvPr/>
        </p:nvSpPr>
        <p:spPr>
          <a:xfrm>
            <a:off x="2023920" y="3171600"/>
            <a:ext cx="821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老舍先生原名舒庆春，是父母所起。因为他出生在阴历腊月二十三那天，离春节只差七天，图吉利，取名“庆春”是庆贺春天到来的意思，到他上中等师范的时候，他为自己起了一个别名，叫“舒舍予”。这个“字”取得很巧妙，他是把自己的姓拆成两半，成为“舍予”二字。这两字又有讲，是“舍我”——放弃私心和个人利益的意思，也有奉献自己的含义。以后他取“舍予”中的头一字，前面加一个“老”字，成为“老舍”，当作自己的笔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WordArt 7"/>
          <p:cNvSpPr txBox="1"/>
          <p:nvPr/>
        </p:nvSpPr>
        <p:spPr>
          <a:xfrm>
            <a:off x="5272200" y="1081080"/>
            <a:ext cx="171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+mn-ea"/>
              </a:rPr>
              <a:t>作家名字的由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+mn-ea"/>
              <a:ea typeface="+mn-e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p_large_6oYC_050e0004df6d2d0b"/>
          <p:cNvPicPr/>
          <p:nvPr/>
        </p:nvPicPr>
        <p:blipFill>
          <a:blip r:embed="rId1"/>
          <a:stretch/>
        </p:blipFill>
        <p:spPr>
          <a:xfrm>
            <a:off x="131760" y="714240"/>
            <a:ext cx="11893680" cy="600084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"/>
          <p:cNvSpPr/>
          <p:nvPr/>
        </p:nvSpPr>
        <p:spPr>
          <a:xfrm>
            <a:off x="623880" y="2661840"/>
            <a:ext cx="1104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当代著名文学家巴金原名李芾甘，生在四川成都的一个封建大家庭里。父亲做过四川广元县的县官，祖父是这个大家庭的专制家长。封建家庭的丑恶、腐败，社会现状的黑暗、腐朽，给幼小的巴金以深刻的印象。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巴金是笔名，过去传说是从巴枯宁和克鲁泡特金两个名字中各取首尾二字而来的。其实“巴金”这个笔名是这样来的：巴金在法国时，曾因身体不好，到马伦河畔的小城沙多吉里休养，顺便在沙城中学念法文。在那里他认识了一个叫巴恩波的中国人。这人翌年投水自杀，使巴金很痛苦，笔名中的“巴”就是由此而联想的，至于“金”字则是一位安徽朋友替他想的。他译完克鲁泡特金的《伦理学》前半部，想用一个比较容易记的字作笔名，这位朋友说出了“金”字，于是巴金的笔名就流传于世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WordArt 7"/>
          <p:cNvSpPr txBox="1"/>
          <p:nvPr/>
        </p:nvSpPr>
        <p:spPr>
          <a:xfrm>
            <a:off x="5095800" y="214200"/>
            <a:ext cx="1943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+mn-ea"/>
              </a:rPr>
              <a:t>巴金名字的由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+mn-ea"/>
              <a:ea typeface="+mn-ea"/>
            </a:endParaRPr>
          </a:p>
        </p:txBody>
      </p:sp>
    </p:spTree>
  </p:cSld>
  <p:transition>
    <p:split dir="in" orient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p_large_6oYC_050e0004df6d2d0b"/>
          <p:cNvPicPr/>
          <p:nvPr/>
        </p:nvPicPr>
        <p:blipFill>
          <a:blip r:embed="rId1"/>
          <a:stretch/>
        </p:blipFill>
        <p:spPr>
          <a:xfrm>
            <a:off x="0" y="714240"/>
            <a:ext cx="12192120" cy="600084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1"/>
          <p:cNvSpPr/>
          <p:nvPr/>
        </p:nvSpPr>
        <p:spPr>
          <a:xfrm>
            <a:off x="695160" y="3216600"/>
            <a:ext cx="1051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现代著名女作家冰心，原名谢婉莹，乳名莹哥。她曾写了《寄小读者》《小桔灯》《超人》《去国》等散文及小说。“冰心”取自唐朝诗人王昌龄的诗：“洛阳亲友如相问，一片冰心在玉壶”。之所以选择“冰心”作笔名，据她自己解释：“一来因为冰心两字，笔书简单好写，而且是莹字的含义。二来是我太胆小，怕人家笑话批评，冰心这两个字，是新的，人家看到的时候，不会想到这两个字和谢婉莹有什么关系。”所以，尽管人们称之为谢冰心，但她总是署名冰心，从不冠以“谢”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WordArt 7"/>
          <p:cNvSpPr txBox="1"/>
          <p:nvPr/>
        </p:nvSpPr>
        <p:spPr>
          <a:xfrm>
            <a:off x="5016600" y="1125360"/>
            <a:ext cx="19429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+mn-ea"/>
              </a:rPr>
              <a:t>冰心笔名的由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+mn-ea"/>
              <a:ea typeface="+mn-ea"/>
            </a:endParaRPr>
          </a:p>
        </p:txBody>
      </p:sp>
    </p:spTree>
  </p:cSld>
  <p:transition>
    <p:wheel spokes="2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文本框 2"/>
          <p:cNvSpPr/>
          <p:nvPr/>
        </p:nvSpPr>
        <p:spPr>
          <a:xfrm>
            <a:off x="4721400" y="2714760"/>
            <a:ext cx="361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ff66ff"/>
                </a:solidFill>
                <a:latin typeface="方正喵呜体"/>
                <a:ea typeface="方正喵呜体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5"/>
          <p:cNvSpPr/>
          <p:nvPr/>
        </p:nvSpPr>
        <p:spPr>
          <a:xfrm>
            <a:off x="2166840" y="1071720"/>
            <a:ext cx="721512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口语交际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楷体"/>
              </a:rPr>
              <a:t>    </a:t>
            </a:r>
            <a:r>
              <a:rPr b="1" lang="zh-CN" sz="7200" spc="-1" strike="noStrike">
                <a:solidFill>
                  <a:srgbClr val="ff00ff"/>
                </a:solidFill>
                <a:latin typeface="Arial"/>
                <a:ea typeface="楷体"/>
              </a:rPr>
              <a:t>名字里的故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  <p:sndAc>
      <p:stSnd>
        <p:snd r:embed="rId1" name="wind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6" descr="VCR8_DKB{G820L6CTFKLW]1"/>
          <p:cNvPicPr/>
          <p:nvPr/>
        </p:nvPicPr>
        <p:blipFill>
          <a:blip r:embed="rId1"/>
          <a:stretch/>
        </p:blipFill>
        <p:spPr>
          <a:xfrm>
            <a:off x="3071880" y="1557360"/>
            <a:ext cx="6095880" cy="417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2381400" y="5243040"/>
            <a:ext cx="764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贝贝的头部纹饰使用了中国新石器时代的鱼纹图案。贝贝温柔纯洁，是水上运动的高手，和奥林匹克五环中的蓝环相互辉映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组合 2"/>
          <p:cNvGrpSpPr/>
          <p:nvPr/>
        </p:nvGrpSpPr>
        <p:grpSpPr>
          <a:xfrm>
            <a:off x="4486320" y="1428840"/>
            <a:ext cx="3119040" cy="3498480"/>
            <a:chOff x="4486320" y="1428840"/>
            <a:chExt cx="3119040" cy="3498480"/>
          </a:xfrm>
        </p:grpSpPr>
        <p:pic>
          <p:nvPicPr>
            <p:cNvPr id="512" name="Picture 5" descr="d1d2913dab7d2c19"/>
            <p:cNvPicPr/>
            <p:nvPr/>
          </p:nvPicPr>
          <p:blipFill>
            <a:blip r:embed="rId1"/>
            <a:stretch/>
          </p:blipFill>
          <p:spPr>
            <a:xfrm>
              <a:off x="4594680" y="1428840"/>
              <a:ext cx="30106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文本框 1"/>
            <p:cNvSpPr/>
            <p:nvPr/>
          </p:nvSpPr>
          <p:spPr>
            <a:xfrm>
              <a:off x="4486320" y="4559400"/>
              <a:ext cx="673200" cy="36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l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14"/>
          <p:cNvSpPr/>
          <p:nvPr/>
        </p:nvSpPr>
        <p:spPr>
          <a:xfrm>
            <a:off x="6095880" y="1484280"/>
            <a:ext cx="3816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晶晶是一只憨态可掬的大熊猫，无论走到哪里都会带给人们欢乐。作为中国国宝，大熊猫深得世界人民的喜爱。晶晶来自广袤的森林，象征着人与自然的和谐共存。他的头部纹饰源自宋瓷上的莲花瓣造型。晶晶憨厚乐观，充满力量，代表奥林匹克五环中黑色的一环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6" descr="3fa4967ef3a75e57"/>
          <p:cNvPicPr/>
          <p:nvPr/>
        </p:nvPicPr>
        <p:blipFill>
          <a:blip r:embed="rId1"/>
          <a:stretch/>
        </p:blipFill>
        <p:spPr>
          <a:xfrm>
            <a:off x="2279520" y="1916280"/>
            <a:ext cx="3600720" cy="3744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14"/>
          <p:cNvSpPr/>
          <p:nvPr/>
        </p:nvSpPr>
        <p:spPr>
          <a:xfrm>
            <a:off x="6167520" y="1285920"/>
            <a:ext cx="3816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欢欢是福娃中的大哥哥。他是一个火娃娃，象征奥林匹克圣火。欢欢是运动激情的化身，他将激情散播世界，传递更快、更高、更强的奥林匹克精神。欢欢所到之处，洋溢着北京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08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对世界的热情。欢欢的头部纹饰源自敦煌壁画中火焰的纹样。他性格外向奔放，熟稔各项球类运动，代表奥林匹克五环中红色的一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7" descr="b48f8a3c45baeaf5"/>
          <p:cNvPicPr/>
          <p:nvPr/>
        </p:nvPicPr>
        <p:blipFill>
          <a:blip r:embed="rId1"/>
          <a:stretch/>
        </p:blipFill>
        <p:spPr>
          <a:xfrm>
            <a:off x="2495520" y="1916280"/>
            <a:ext cx="3419640" cy="3744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7" descr="44bf9003f170b323"/>
          <p:cNvPicPr/>
          <p:nvPr/>
        </p:nvPicPr>
        <p:blipFill>
          <a:blip r:embed="rId1"/>
          <a:stretch/>
        </p:blipFill>
        <p:spPr>
          <a:xfrm>
            <a:off x="2023920" y="164304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519" name="矩形 14"/>
          <p:cNvSpPr/>
          <p:nvPr/>
        </p:nvSpPr>
        <p:spPr>
          <a:xfrm>
            <a:off x="6024600" y="134136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迎迎是一只机敏灵活、驰骋如飞的藏羚羊，他来自中国辽阔的西部大地，将健康的美好祝福传向世界。青藏高原特有的保护动物藏羚羊，是绿色奥运的展现。迎迎的头部纹饰融入了青藏高原和新疆等西部地区的装饰风格。他身手敏捷，是田径好手，代表奥林匹克五环中黄色的一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14"/>
          <p:cNvSpPr/>
          <p:nvPr/>
        </p:nvSpPr>
        <p:spPr>
          <a:xfrm>
            <a:off x="6024600" y="150012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妮妮来自天空，是一只展翅飞翔的燕子，其造型创意来自北京传统的沙燕风筝。“燕”还代表燕京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古代北京的称谓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。妮妮把春天和喜悦带给人们，飞过之处播撒“祝您好运”的美好祝福。天真无邪、欢快矫捷的妮妮将在体操比赛中闪亮登场，她代表奥林匹克五环中绿色的一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Picture 5" descr="f0cc03b0eb9276d5"/>
          <p:cNvPicPr/>
          <p:nvPr/>
        </p:nvPicPr>
        <p:blipFill>
          <a:blip r:embed="rId1"/>
          <a:stretch/>
        </p:blipFill>
        <p:spPr>
          <a:xfrm>
            <a:off x="2279520" y="1844640"/>
            <a:ext cx="3448080" cy="3600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6" descr="{8V)ADKVYVL6~C5Q$S`TQ01"/>
          <p:cNvPicPr/>
          <p:nvPr/>
        </p:nvPicPr>
        <p:blipFill>
          <a:blip r:embed="rId1"/>
          <a:stretch/>
        </p:blipFill>
        <p:spPr>
          <a:xfrm>
            <a:off x="1595520" y="1000080"/>
            <a:ext cx="9072360" cy="52722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6"/>
          <p:cNvSpPr/>
          <p:nvPr/>
        </p:nvSpPr>
        <p:spPr>
          <a:xfrm>
            <a:off x="2881440" y="1928880"/>
            <a:ext cx="6000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说话要求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说说姓什么，叫什么；说清楚是哪个字；名字是谁给取的；为什么叫这个名字；说说自己的乳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6:48:03Z</dcterms:created>
  <dc:creator>admin</dc:creator>
  <dc:description/>
  <dc:language>en-US</dc:language>
  <cp:lastModifiedBy>万润仪器贸易公司</cp:lastModifiedBy>
  <dcterms:modified xsi:type="dcterms:W3CDTF">2020-08-19T03:29:16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